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C80-35B6-4E58-B4E8-727F0C26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A3FB-04AD-46B4-895F-438D225C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E4AA-6BC9-4E54-9E5D-7193FB69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CEAD-59B9-4208-8CF9-0F5DE39F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77D6-3831-48ED-BDBD-9297D041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8857-2A12-4A9F-94F2-C8661C4D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1E40-EE0B-4A5E-A8E2-0B486553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64FC-2DA0-466B-AE2D-77DFBF62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965F-DBC5-4BEA-86A2-50458B93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3583-1A25-4C2B-8484-8D446A2B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7A9E-C402-48D9-BAFE-FDDBC04A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498D-2A93-40EB-9105-2C308E67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D1A4-7402-4A92-AD42-32C80E3E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21B9-AC7D-41E1-80E3-EDEF2DD7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60C0-170B-4AB4-A8C7-2339A1E9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80F2-7A2A-4038-8A00-A8DF0604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98F0-08E4-4B8E-B90A-7D8D2548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4411-9C99-499F-9F2D-E5773257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0B82-AC4F-4C5E-ABC3-5DF8835F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1F0F-5519-49A8-A7A5-19CD235F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A4A0-4F40-40C8-B44A-8E69E6D0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5A97-04EA-4144-9D6D-4E7B7A7D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E4F3-2701-4C38-9772-5E2E825D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0395-EBC4-4277-9F41-E260C3F8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93DD-5EFE-4043-A7EF-A8BE974B58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D540-FEEC-4809-B1F7-446046AE17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a ca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: Alison Keave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133720" y="2438280"/>
            <a:ext cx="5181480" cy="29768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El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omed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 comedor. El comedor es muy bello y impresio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09480" y="2590920"/>
            <a:ext cx="3581640" cy="2685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a coci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a cocina. La cocina es muy grande y magnífico.</a:t>
            </a:r>
            <a:r>
              <a:rPr b="0" lang="en-US" sz="2800" spc="-1" strike="noStrike">
                <a:solidFill>
                  <a:srgbClr val="ffffff"/>
                </a:solidFill>
                <a:latin typeface="Tw Cen MT Condensed Extra Bol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19720" y="2743200"/>
            <a:ext cx="4038480" cy="2693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 b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Tahoma"/>
              </a:rPr>
              <a:t>ñ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s un ba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ahoma"/>
              </a:rPr>
              <a:t>ño . El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a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ahoma"/>
              </a:rPr>
              <a:t>ño es lujoso y fabulos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743200" y="3124080"/>
            <a:ext cx="3772080" cy="2600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 cuar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 cuarto. El cuarto es un estunpendo y impresio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" y="240048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El pat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 patio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 patio es bello y gran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648320" y="2743200"/>
            <a:ext cx="4038480" cy="2533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 jar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 jarden. El jarden es muy grande y fabulo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724280" y="2666880"/>
            <a:ext cx="3962520" cy="2482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 gara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 garaje. El garaje es muy grande y modern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572000" y="2514600"/>
            <a:ext cx="4114800" cy="2502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a sa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s una sala. La sala es muy grande y estupen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638680" y="32004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4:43:53Z</dcterms:created>
  <dc:creator>keavenyali</dc:creator>
  <dc:description/>
  <dc:language>en-US</dc:language>
  <cp:lastModifiedBy>keavenyali</cp:lastModifiedBy>
  <dcterms:modified xsi:type="dcterms:W3CDTF">2012-10-25T17:53:52Z</dcterms:modified>
  <cp:revision>5</cp:revision>
  <dc:subject/>
  <dc:title>La casa</dc:title>
</cp:coreProperties>
</file>